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479-C68A-4864-9D34-65255C0F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BAE-CEB5-4F2B-82C6-D6A91982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7B6F-6E21-45D9-9316-28F80321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B92-AD8D-4DFD-A78D-364447DA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B5E2-B6CF-4FEE-A92E-E1042E35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7E23-176E-4C3A-A647-3A42A155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44EC3-91A6-4C38-A3C3-194013A6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EBC8B-B237-4CFD-8DE7-ECDD62D2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BE827-4BB8-4EEA-86B9-74773960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4C2E2-236A-475A-9A3D-F1901C99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94F88-45FA-4C3D-A275-FE9D36CE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6FA7-A6AC-469E-AD3C-3D1C1154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0AC21-2F23-4B00-8A96-5718D683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99806-58B0-4D43-A97B-44752E16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8F77A-89B9-468F-A2E1-409E93C6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51B47-C99E-4DEF-86EB-29FDC3C6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0F4EF-6BE5-4D5F-9186-2D71FE64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6B9D0-9A55-43B3-BB22-F1C19D33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A62D9-8937-40AC-A57A-F66D91CD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3E5D-0730-470C-93C9-05C23BD8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57DB-9E68-4522-A911-DD263FAA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A2A1-E0AF-4166-A50F-3AE34CC7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CD3C-AAA3-4224-A719-B05C1C36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71D-ADD9-44B9-B199-7C08D41B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B911-A1CA-46FA-BC97-103E3B37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39D9-14A3-408E-ACCA-62D4E25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1849D-7362-42FC-BA33-85BBB4E6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653D5-EA0F-4823-A3F3-0E9B4F91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57482-D911-418C-879B-B2AB30A5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9724-9E73-40A4-A48A-A56521D5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C8E0C-096A-49D0-8418-AF0EC003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F6C02-7670-4648-A25C-90A9A1FC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0CF79-8E36-4385-9252-EDC404FA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56A17-1A97-4FFE-BED3-87E6C7E2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0C467-503B-4DA4-A8AF-87B47EEA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FCE40-4306-458F-93CF-15C272F2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B97EA-D006-4C01-8E15-C3C0D38F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524AE-83ED-4C3B-963A-41F8AC5F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8BEF9-16A8-439E-B8C4-E2C7BB4C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9F18-D0DA-42C6-8F54-9BE79DE8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966D-C2CA-4873-AF69-AF1AD8C0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8388-9382-4DD9-A9E9-BD30BD72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AAD60-15C4-4074-8565-691B93BF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5FDE2-2706-411E-B6CF-8A0BE312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8DD32-0EA8-4D71-BD4E-9FAA0E8F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FE80E-DBF0-4F69-BA4C-B74A3940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030-690B-44EE-ACC3-1B0A057F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9A11D-528B-47F2-9666-A01CBA2C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803F6-1AE3-49BB-B790-CD03BCE7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D662B-CC50-457C-9738-6E871791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DE6F8-5AF8-49C7-B35E-8C69ADAD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5595-D85A-42D1-B151-D8FA4088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B03C3-3D70-4611-BCB2-5E2F472E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E7176-1046-44A5-84AE-A94E8936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715-7318-4397-B0A3-92384BED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59D-C688-4591-8DC7-E9E35F4C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E18-73CA-4BA2-A346-20E18664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D1E-075D-4DFF-96DB-3094F643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DEA83-1C4E-471F-A7D8-A799EB01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B285A-760D-44F5-A9C2-3957AC88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2E90C-39DB-4440-8ABD-7BC215FB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AEAF1-C108-4964-A408-A0A314AC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CA7F2-0719-428B-B7A2-F461624B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E8D1F-95D2-4AB1-9B40-1CEFAD9A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95BF1-7C20-4454-9348-80E14D14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4B3-8A4D-4D8F-8940-B319641A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B7738-8699-4ED5-95A8-6237A722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F2FD1-7B5F-4ADE-878F-5488E33C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D7A5C-26A9-4928-903E-712681C3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95E1E-C68D-47E8-8FB0-64CAD7F6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A3137-7609-48D7-94F3-E7214959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976-7B19-4F4C-A8BB-E792190A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42F0439-E9E2-48BB-B202-800C1DFBEC32}" type="slidenum"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矩形 1"/>
          <p:cNvSpPr/>
          <p:nvPr/>
        </p:nvSpPr>
        <p:spPr>
          <a:xfrm>
            <a:off x="0" y="779400"/>
            <a:ext cx="9144000" cy="59086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B3FD-96E8-4DD9-9326-C3D0263D441F}" type="slidenum"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矩形 1"/>
          <p:cNvSpPr/>
          <p:nvPr/>
        </p:nvSpPr>
        <p:spPr>
          <a:xfrm>
            <a:off x="36360" y="36360"/>
            <a:ext cx="9071280" cy="6785280"/>
          </a:xfrm>
          <a:prstGeom prst="rect">
            <a:avLst/>
          </a:prstGeom>
          <a:noFill/>
          <a:ln w="108000">
            <a:solidFill>
              <a:srgbClr val="4ea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2"/>
          <p:cNvSpPr/>
          <p:nvPr/>
        </p:nvSpPr>
        <p:spPr>
          <a:xfrm>
            <a:off x="515880" y="36360"/>
            <a:ext cx="181080" cy="513000"/>
          </a:xfrm>
          <a:prstGeom prst="rect">
            <a:avLst/>
          </a:prstGeom>
          <a:solidFill>
            <a:srgbClr val="4ea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6"/>
          <p:cNvSpPr/>
          <p:nvPr/>
        </p:nvSpPr>
        <p:spPr>
          <a:xfrm>
            <a:off x="7678800" y="36360"/>
            <a:ext cx="181080" cy="513000"/>
          </a:xfrm>
          <a:prstGeom prst="rect">
            <a:avLst/>
          </a:prstGeom>
          <a:solidFill>
            <a:srgbClr val="4ea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矩形 1"/>
          <p:cNvSpPr/>
          <p:nvPr/>
        </p:nvSpPr>
        <p:spPr>
          <a:xfrm>
            <a:off x="0" y="779400"/>
            <a:ext cx="9144000" cy="59086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7A38-710E-4990-8D97-1C337592F12F}" type="slidenum"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41C5DF1-A78A-4C78-969A-681A1A58A91E}" type="slidenum"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矩形 1"/>
          <p:cNvSpPr/>
          <p:nvPr/>
        </p:nvSpPr>
        <p:spPr>
          <a:xfrm>
            <a:off x="36360" y="36360"/>
            <a:ext cx="9071280" cy="6785280"/>
          </a:xfrm>
          <a:prstGeom prst="rect">
            <a:avLst/>
          </a:prstGeom>
          <a:noFill/>
          <a:ln w="108000">
            <a:solidFill>
              <a:srgbClr val="4ea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2"/>
          <p:cNvSpPr/>
          <p:nvPr/>
        </p:nvSpPr>
        <p:spPr>
          <a:xfrm>
            <a:off x="515880" y="36360"/>
            <a:ext cx="181080" cy="513000"/>
          </a:xfrm>
          <a:prstGeom prst="rect">
            <a:avLst/>
          </a:prstGeom>
          <a:solidFill>
            <a:srgbClr val="4ea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6"/>
          <p:cNvSpPr/>
          <p:nvPr/>
        </p:nvSpPr>
        <p:spPr>
          <a:xfrm>
            <a:off x="7678800" y="36360"/>
            <a:ext cx="181080" cy="513000"/>
          </a:xfrm>
          <a:prstGeom prst="rect">
            <a:avLst/>
          </a:prstGeom>
          <a:solidFill>
            <a:srgbClr val="4ea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A9E1D07-8330-4118-8BD2-CFC1118BEE83}" type="slidenum"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1"/>
          <p:cNvSpPr/>
          <p:nvPr/>
        </p:nvSpPr>
        <p:spPr>
          <a:xfrm>
            <a:off x="0" y="779400"/>
            <a:ext cx="9144000" cy="59086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299B-D6BF-48EE-84A5-0CCEBD602D36}" type="slidenum"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1"/>
          <p:cNvSpPr/>
          <p:nvPr/>
        </p:nvSpPr>
        <p:spPr>
          <a:xfrm>
            <a:off x="36360" y="36360"/>
            <a:ext cx="9071280" cy="6785280"/>
          </a:xfrm>
          <a:prstGeom prst="rect">
            <a:avLst/>
          </a:prstGeom>
          <a:noFill/>
          <a:ln w="108000">
            <a:solidFill>
              <a:srgbClr val="4ea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"/>
          <p:cNvSpPr/>
          <p:nvPr/>
        </p:nvSpPr>
        <p:spPr>
          <a:xfrm>
            <a:off x="515880" y="36360"/>
            <a:ext cx="181080" cy="513000"/>
          </a:xfrm>
          <a:prstGeom prst="rect">
            <a:avLst/>
          </a:prstGeom>
          <a:solidFill>
            <a:srgbClr val="4ea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6"/>
          <p:cNvSpPr/>
          <p:nvPr/>
        </p:nvSpPr>
        <p:spPr>
          <a:xfrm>
            <a:off x="7678800" y="36360"/>
            <a:ext cx="181080" cy="513000"/>
          </a:xfrm>
          <a:prstGeom prst="rect">
            <a:avLst/>
          </a:prstGeom>
          <a:solidFill>
            <a:srgbClr val="4ea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文本框 3"/>
          <p:cNvSpPr/>
          <p:nvPr/>
        </p:nvSpPr>
        <p:spPr>
          <a:xfrm>
            <a:off x="1841400" y="3978360"/>
            <a:ext cx="61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博士</a:t>
            </a:r>
            <a:r>
              <a:rPr b="0" lang="en-US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硕士毕业论文预答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文本框 6"/>
          <p:cNvSpPr/>
          <p:nvPr/>
        </p:nvSpPr>
        <p:spPr>
          <a:xfrm>
            <a:off x="539640" y="25700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科学院大学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科学院宁波材料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矩形 2"/>
          <p:cNvSpPr/>
          <p:nvPr/>
        </p:nvSpPr>
        <p:spPr>
          <a:xfrm>
            <a:off x="0" y="-27000"/>
            <a:ext cx="914400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图片 12" descr="中国科学院大学（横式）"/>
          <p:cNvPicPr/>
          <p:nvPr/>
        </p:nvPicPr>
        <p:blipFill>
          <a:blip r:embed="rId1"/>
          <a:stretch/>
        </p:blipFill>
        <p:spPr>
          <a:xfrm>
            <a:off x="298440" y="476280"/>
            <a:ext cx="3119400" cy="684360"/>
          </a:xfrm>
          <a:prstGeom prst="rect">
            <a:avLst/>
          </a:prstGeom>
          <a:ln w="0">
            <a:noFill/>
          </a:ln>
        </p:spPr>
      </p:pic>
      <p:sp>
        <p:nvSpPr>
          <p:cNvPr id="832" name="矩形 14"/>
          <p:cNvSpPr/>
          <p:nvPr/>
        </p:nvSpPr>
        <p:spPr>
          <a:xfrm>
            <a:off x="0" y="5624640"/>
            <a:ext cx="9144000" cy="12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文本框 15"/>
          <p:cNvSpPr/>
          <p:nvPr/>
        </p:nvSpPr>
        <p:spPr>
          <a:xfrm>
            <a:off x="1584360" y="6099120"/>
            <a:ext cx="56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×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年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×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月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×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3" descr=""/>
          <p:cNvPicPr/>
          <p:nvPr/>
        </p:nvPicPr>
        <p:blipFill>
          <a:blip r:embed="rId2"/>
          <a:stretch/>
        </p:blipFill>
        <p:spPr>
          <a:xfrm>
            <a:off x="3727440" y="260280"/>
            <a:ext cx="25686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04:03:53Z</dcterms:created>
  <dc:creator>俞红唐</dc:creator>
  <dc:description/>
  <dc:language>en-US</dc:language>
  <cp:lastModifiedBy>尔斯格 温</cp:lastModifiedBy>
  <dcterms:modified xsi:type="dcterms:W3CDTF">2024-09-04T02:42:39Z</dcterms:modified>
  <cp:revision>497</cp:revision>
  <dc:subject/>
  <dc:title>幻灯片 1</dc:title>
</cp:coreProperties>
</file>